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D0E-97BF-4FB4-999C-E2E17B2C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43-2B0E-47FB-A850-32828A9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2EE-7342-497C-A7D3-2A008DF1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7C3-83FB-4A3D-B903-C2900CF4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1ED5-806A-4D28-9977-82DBA68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8B92-936C-4181-9354-7DEB2F6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EC7D-18F4-4D36-BB89-FB8AE42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41C2-C63E-459D-B8A9-9F547058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9A4E-784C-413D-91BD-34B1DD4B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CAC-BDCE-4F5D-9F99-8543C8E6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845-167B-4E0F-B2AB-9C99979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022-D5AF-4488-8CAB-C722F73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87B8-290E-4344-BE22-AA287CD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98B-E56B-4C19-8504-6DC775E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B631-523C-44FC-8F2D-9E33F8AD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E87D-BB53-4A0A-90E9-6867AC27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EA75-2ECF-45FD-9E2B-C344E289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EF5-2452-47EF-B577-EDC42EB0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DDE-ADCA-43D0-97C9-923C2DDF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FD4-75FC-4F63-91E8-9E36428D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0C1-4EAE-4113-9728-C2687AB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580-D488-45A6-9C02-A704142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F52-95F4-47DC-9166-C924A621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FC8-98E7-4CE7-92DF-4C79743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3E00-6BB2-42BE-9724-C42713EEEFB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BDF-1884-4BFA-AA1C-4F0109E6B8C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net Safety @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S PTA Presentation – 23 Novembe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s it safe out ther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to look out for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ornograph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Predato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yber-bully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Online Gambl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you do to keep them saf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alk with the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e open about what concerns you and what types of content you don’t want them view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k them what they do when they are onli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peak to them about what kind of information they and others share onli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stablish some rules or guidelines about time and/or what they d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an you do to keep them saf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ontrol acc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ere is the computer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ow much time are they allowed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n you disconnect them, if necessary?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onger Meas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lter Softwar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tent Provider” – endorsed by Disney and reviewed highly by Top Ten reviews:  US$40 per yea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K9 Web Protection from Blue Coat, supplier to Fortune 500 companies so for homes it’s Free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Keep in mind that filter software is not perfec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636800" cy="617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0" y="160020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4956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0258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4952880"/>
            <a:ext cx="228600" cy="228600"/>
          </a:xfrm>
          <a:prstGeom prst="star5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609588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Tahoma"/>
              </a:rPr>
              <a:t>From “Do You Know Where Your Kids are Clicking”, by Alan Cohen, PC Magazine, July 2006.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other prior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real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world is worth participating in too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mind your children about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be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a human being – balancing their liv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electronic world can be pretty consum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alance requires that they sleep, eat, exercise and leave their rooms to thr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member that soon enough they will be on their own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with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them to become smart, responsible, safe web participant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VERYTHING will change even more in the coming years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ssential Ques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 we the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digital immigrant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understand, participate in, and monitor the world of our </a:t>
            </a:r>
            <a:r>
              <a:rPr b="0" i="1" lang="en-US" sz="3200" spc="-1" strike="noStrike">
                <a:solidFill>
                  <a:srgbClr val="080808"/>
                </a:solidFill>
                <a:latin typeface="Tahoma"/>
              </a:rPr>
              <a:t>digital nativ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children to ensure their safety?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day’s 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are “Digital Natives”  - what does that mean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are your children doing on the internet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s it safe out ther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hat can you do to keep your child saf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Questions &amp; (hopefully) Answ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r children are ‘wired’ different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Visual cortex in the brain of the kids today is 15% larger than of kids 10 years ago. They process information differently. They are DIGITAL NATIVE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gital N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nyone born after 1985 is a digital native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45280" y="2286000"/>
            <a:ext cx="257940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53341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ersonal computers are already 10 years ol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95280" y="2286000"/>
            <a:ext cx="31244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ir Lifeti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505320"/>
            <a:ext cx="8077320" cy="0"/>
          </a:xfrm>
          <a:prstGeom prst="line">
            <a:avLst/>
          </a:prstGeom>
          <a:ln w="7632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2514600"/>
            <a:ext cx="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739880"/>
            <a:ext cx="289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0 - Tim Berners-Lee writes World Wide Web progra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447048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6 - Palm pilots go on the market… computing becomes mobil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619440" y="3505320"/>
            <a:ext cx="0" cy="9144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67652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1999 - Sean Fanning, creates Napster… suddenly everyone is sharing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514600"/>
            <a:ext cx="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956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2002 - the iPod is unveiled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505320"/>
            <a:ext cx="0" cy="990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now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1997-2005 has brought us: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log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YouTub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ocial network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o you know what these are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do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gital N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Your children are not u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average college graduate n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less than 5,000 hours read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more than 10,000 hours playing video gam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s spent 20,000 hours watching T.V.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-mail is old-technology to th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ow does knowing this impact what we do?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your children do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chool work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Word processing, spreadsheets, presentations, simulation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Research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ocializ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ySpace – social network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haring files (torrents) – music, video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Meeting peopl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at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Download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Gam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Virtual worlds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Passing tim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Online Gambling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xploring Interests/Quest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Appropriate and inappropriate content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3:13:40Z</dcterms:created>
  <dc:creator>dennish</dc:creator>
  <dc:description/>
  <dc:language>en-US</dc:language>
  <cp:lastModifiedBy>dennish</cp:lastModifiedBy>
  <dcterms:modified xsi:type="dcterms:W3CDTF">2006-11-22T17:42:34Z</dcterms:modified>
  <cp:revision>27</cp:revision>
  <dc:subject/>
  <dc:title>Internet Safety @ Home</dc:title>
</cp:coreProperties>
</file>